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AC1-82C8-4633-8BEA-B372431D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055-BD14-4E15-BC5E-25FEFE34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3C4-58A8-4E65-BD5B-67811F97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101-97A9-458F-BA96-3D5D1AA8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1A46-E9EC-44F4-B2B5-4A808F3D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6A3A-0D1B-4CF1-AA9D-A5B5AC2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9E88-CFAD-4AA1-A2D2-58A93F7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3F9-7574-4D16-8E0B-A95F506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C27-C450-4889-A647-1D94147B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58A-DD03-4DAD-B082-4499D202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128-29D1-48A3-9A3A-A173207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2A5-7ADA-4089-87C7-1F79D933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98A-C5F7-4FD9-AD58-8B40B62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B12F-3A48-4B94-A9A4-FE52BBF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32E-5108-46CB-84CA-D1051B8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CA48-E95E-49A3-966F-58BF50DE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C8C8-14CD-4EAB-8142-21D5FFF8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E9D-84F3-438C-8D50-18044E5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77D-3436-4E3A-B38A-95276C7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9BE-9D12-4556-9F9B-12DFCF2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731-CBFB-4331-82F9-FE8477D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D15-DBC9-4557-971E-A3A44C1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19E-642B-44D4-8936-9BDC541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CB8-7831-4AA3-8EDD-3A6E8A2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4CBF-F75B-4435-9976-C93D7DB7A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885-D097-4DC2-8B95-20812A107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69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Основные этапы развития позитивизм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ческий (первый) позитивиз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хизм и эмпириокритицизм (второй позитивизм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позитивизм (логический позитивиз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позитивиз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3472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фаллибилиз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ает, что любое научное знание носит лишь гипотетический характер и подвержено ошибк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Теория «трех миров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тверждающая существование первого мира - мира объектов, второго мира - мира субъектов и третьего мира - мира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объективного зн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й порожден первым и вторым мирами, но существует независимо от них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ре Лакатос (1922-19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Фальсификация и методология научно-исследовательских программ» (197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стория науки и ее рациональные реконструкции» (197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зменяющаяся логика научного открытия» (197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катос разработал методологию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аучно-исследовательских програм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ИП), смягчающую жесткость фальсификационизма: теория отживает свой век не тогда, когда объявляется противоречащий ей факт, а когда о себе заявляет теория, которая лучше предыдущ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науки представляет собой конкуренцию НИП, когда одна исследовательская программа вытесняет другу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П есть серия сменяющихся теорий, связанных между собой едиными основополагающими принцип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грамму входит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гативная эврис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авила-запр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озитивная эврис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тратегия выбора первоочередных проблем и задач, которые следует реша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НИП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«Жесткое ядро»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которое входят неопровергаемые для сторонников программы, фундаментальные положения (нефальсифицируемые гипотезы). То есть это то, что является общим для всех ее теорий. По ядру можно судить о характере всей програм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ет совокупность вспомогательных гипотез, которые предохраняют ее ядро от фальсификации, от опровергающих фактов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(«защитный пояс»)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Имре Лака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81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ьсификации, т.е. теоретической критике и эмпирическому опровержению, подвергается лишь гипотезы «защитного пояса». По общему соглашению подвергать фальсификации жесткое ядро запрещает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ысл программы в способности пополнять знания, предсказывать новые факты, а противоречия и трудности в объяснении каких-либо явлений  не влияют на отношение к ней уче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ас Кун (1922-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перниканская революция» (195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труктура научных революций» (196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еория черного тела и квантовая прерывность. 1894-1912» (197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В истории науки выделяются следующие стад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Допарадигмальная наук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клектичное соединение различных альтернативных гипотез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конкурирующих научных сообществ. Каждая группа строит свои теории без ссылок на внешние авторитеты и образ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рмальная нау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период господства той или иной парадигмы, образцовой теории используемой для относительно согласованного и единообразного решения возникающих пробл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081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позитивизм. К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гюст Ко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798–1857), 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Джон Мил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06–1873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Герберт Спенс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20–1903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о Кон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ское знание должно быть точным и достовер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ой метод философии – эмпирическое наблю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исследует факты, а не «причины» и «сущн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не занимается ценност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не есть «царица наук», она должна стать конкретной нау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арадиг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дисциплинарная матрица)- это совокупность убеждений, ценностей, технических средств, принятых научным сообществом и обеспечивающих научную традиц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дигмой определяется что является значимой научной проблемой, что должно быть проигнорировано (исключения)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ть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рмальной нау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кумулятивном накоплении знаний, теоретическом и экспериментальном уточнении программных установок. Только на этой стадии идет рост 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период заканчивается, когд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«взрывается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нутри под давлением «аномалий» (проблем, неразрешимых в ее рамках)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Революционная нау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создаются новые парадигмы, оспаривающие первенство друг у друга. (есть определенное сходство с допарадигмальной науко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изис разрешается победой одной из них;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нача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ового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«нормального» период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(все заново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, какая версия победит, зависит не только от научных их достоинств, но и факторов политических, социальных, культур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Томас Ку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соизмеримость парадиг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невозможно установление каких-либо логических отношений между сменяющими друг друга теори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существует фактов, независимых от парадигмы, и следовательно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 существуе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етически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йтральн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язы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аблюд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 Фейерабенд (1924-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отив метода. Очерк анархистской теории познания» (197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аука в свободном обществе» (197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облемы эмпиризма. Философские заметки» (198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1294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ет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концепцию эпистемологического анарх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йерабендом отрицае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ование объективной ист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ление о кумулятивности научного знания и преемственности в его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него развитие науки есть череда случайных и произвольных переворо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691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сновные понят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пролифераци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множения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орий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ученые должны стремиться создавать теории, несовместимые с существующими и признанными теор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альтернативных теорий способствует их взаимной критике и ускоряет развитие нау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люрализм в методологии нау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следствие принципа пролиферации теор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Пол Фейерабенд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Методологический анархизм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аждый ученый может изобретать и разрабатывать свои собственные теории, не обращая внимания на противоречия и крити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ь ученого не подчинена никаким рациональным нормам, поэтому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развитие науки иррациональ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 наука ничем не отличается от мифа и религии, представляя собой одну из форм идеолог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кл Полани (1891-19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Личностное знание. На пути к посткритической философии» (195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ания академической свободы» (194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еявное знание» (196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Майкл Полан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ани доказывает, что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 установ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разделяемые исследователем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возмож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олност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ербализов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яду с вербализованным (текст) знанием,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существуе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знание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яв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евербализованное. Оно передаю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т учителя к ученик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от поколения к поколению на уровне непосредственной демонстрации образцов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позитив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Эрнст М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36–1916) и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ихард Авенариу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43–189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Иде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 философии –  критика и анализ опыта (эмпириокритициз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предметы и явления окружающего мира для человека есть «комплекс ощущений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значит, что изучение окружающего мира есть опытное исследование человеческих ощущ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я должна стать достоверной наукой об ощущениях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Майкл Полан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дея: следует считывать не только ценности (Кун), но и другие факто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ауке явное знание представлено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 понятиях и теориях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явное – как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личностное зн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поз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6920" y="1904760"/>
            <a:ext cx="74883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 в 20-е годы ХХ 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Представител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Мориц Шли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82-1936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удольф Карна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91-1970), </a:t>
            </a: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Людвиг Витгенштей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89-1951)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Иде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дача философии – логический анализ языка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Результат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еопозитивисты исключают из сферы философии почти всю философскую проблематик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Поппер (1902-1994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7634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Основные сочи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Логика научного исследования» (193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ткрытое общество и его враги» (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ищета историцизма» (194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3300"/>
                </a:solidFill>
                <a:latin typeface="Arial"/>
              </a:rPr>
              <a:t>Логика и рост научного зн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снован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ии находя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гипоте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предположения); научные гипотезы навсегда остаются гипотезам, их истинность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льзя д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гипотез по законам дедукции выводят предложения, которые можно сопоставить с факт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Сопоставление с факт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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дложени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е противореч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фактам, то теори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продолжает ж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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дложения теории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опровергаю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фальсифицируются) фактами, то теория считается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лож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нов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ная теория имеет </a:t>
            </a: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гипотетико-дедуктивну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труктур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потезы выступают попытками разрешить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дукция позволяет сверить содержание гипотез с экспериментальными фактами. Факты проверяют теорию на прочность (годится - не годится)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позитивизм. Карл Поп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2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3300"/>
                </a:solidFill>
                <a:latin typeface="Arial"/>
              </a:rPr>
              <a:t>Основные понят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облема демарк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задача философии, заключающаяся в отделении научного знания от ненаучного. Метод демаркации – принцип фальсиф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Arial"/>
              </a:rPr>
              <a:t>Принцип фальсифик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ребует принципиальной опровержимости (фальсифицируемости) любого утверждения, относимого к науке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10-04-15T10:25:30Z</dcterms:modified>
  <cp:revision>110</cp:revision>
  <dc:subject/>
  <dc:title>Слайд 1</dc:title>
</cp:coreProperties>
</file>